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848-8A2D-4EBB-B79A-7B1FC4DF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CAD-F5AF-4999-AEF4-699AB52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4D5-21F7-4778-ACB1-D17EA9B7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14C-68E9-447F-8FFA-BC83DFEE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FC4-B9D5-41E5-A694-C324C71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9A7-1898-435D-A5B0-D61BAEB2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932-CF58-476B-9DA7-D3096593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F0C-89EB-47D0-A002-C613F80B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0E9-C9E7-4E91-85F2-5FD972AA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993-A2CB-4C0E-B08D-3A98FC2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BBA-9FC7-4501-AB60-C8CEC37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3C4-DCF5-4AA1-AD3B-11D292AE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5125-7503-44A2-8291-880C9070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8:19:44Z</dcterms:created>
  <dc:creator>abeason</dc:creator>
  <dc:description/>
  <dc:language>en-US</dc:language>
  <cp:lastModifiedBy>abeason</cp:lastModifiedBy>
  <dcterms:modified xsi:type="dcterms:W3CDTF">2008-10-14T18:19:49Z</dcterms:modified>
  <cp:revision>1</cp:revision>
  <dc:subject/>
  <dc:title>Slide 1</dc:title>
</cp:coreProperties>
</file>